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8596-4EA6-44F1-808F-DF534805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9F5-AC0F-4FEF-BE7F-F839564E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276BD1-78C4-4D57-8A08-5DC6642E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B14947-7AFE-4CB3-BEBE-F95684B6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4E2B89-EDB6-47A7-A62B-4DA22FD0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1DFC77-3FBD-4B48-BA4E-80FCF7B0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AC81E2-67D2-46E5-B900-F7A169C1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21E98E-7B72-4340-9893-55666B73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187CB9-A6C5-4753-A022-9DBB42B3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7AC822-1492-4EFC-978C-BCE6CCCB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BD8488-539F-41D6-B583-518BD78C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21B45-AEEF-4233-B6FB-0520B96D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C95-D58C-4286-9247-44A2AA4C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7CB9C-1E0E-485B-9A13-1046AFBA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8A5EE-8036-40F7-B473-1712356A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DC012-C5BC-4C80-8628-508E0E7D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4DFC1-A352-455D-8977-CC32BBEA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71C7D-86D0-4B6D-B277-16C872B6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F1FBA-CF3B-496F-87FC-B3212523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B8D64-CCDA-425E-8B60-7419E48A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D37AE-3C99-430D-9006-72071396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CCBDD-3779-459C-87D1-D87FD861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5C5BE-C714-4CE1-A942-D02475CD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4214-3859-4CEB-B222-87D399BA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CA7DC-CD61-44E5-A5DE-2C08045F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3169C-DA0B-4ABA-9731-E108E2AE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6CAAE-B587-4017-9209-2DE41ECA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77776-144A-490C-AB5D-980DE717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70C51-082F-426E-AE6E-388C97D4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453FE-1759-43D6-B75B-427B0FA8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54586-0371-488E-9D14-1575DE8E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E8B66-CB38-45EE-A5D3-C12F273F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5DA02-AAE4-477B-893F-0A94BD93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2B67C-604C-4CF3-AD3E-7CFF6087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41B0-D9EE-4EBF-AAC7-51001759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C2194-3048-44A0-9C11-C4194722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860D0-D4FE-47DD-A88B-618E3E9B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A7314-B349-40F3-B878-5D0B934E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3817A-523C-49D2-9ED6-4A5BFA50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A658A-C8CB-4667-8989-FF8F4F3A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B2049-DC42-4DF3-9CC3-5ABD8BB3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F7F03-A234-4977-A427-6FF92BF1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49904-5981-4B99-B0D0-4EBD4468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6193F-CFEE-4587-AA59-5C7FF4C5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3A016-4609-4812-AD73-3C9D434F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2F3C-4B70-4F8F-88FA-F52BE813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287CB-D59D-48D1-AED3-E0363136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2941E-1174-45B2-A3EE-6D0329FC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61614-D70A-468F-9020-76700F51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234D2-3E32-4BF8-B0A7-4EADCCC3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68E50-CAA4-4C2C-8B5B-9A4A218E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10A1D-2731-478A-AB24-AC06FB8C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E6C352-397C-4AB6-B3E2-7EE851BD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68814-6114-45BF-BB42-E6D3411F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C5C961-60FF-4D75-A3D1-A34E6B66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28BD1-B959-48B8-8BF5-295DBAD3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A47B-9E82-4DA4-8EE5-1E39533F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6D76F-7691-4CA2-B57F-6F2D3532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312EE1-B16A-4707-9723-FF471467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6CEAD3-F01C-494C-BBAA-89E2D1DD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FBBB68-D2C9-46C2-A66E-36DADF9F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C8F715-D4EE-470F-B761-1B67567D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6B7302-034D-4461-B842-2ACF28A9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9700C-D414-4BC5-8088-7C52A24D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EE64BC-1536-4DCC-B744-284998D4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35BAAA-DC47-4102-8B4D-B0EF8C73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BE2318-73A8-4636-B549-46ED1AA8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C039-83B4-4F35-90FC-BB458340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80D5B7-6DD0-4A95-9338-C1F0D2B1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B1605B-4705-430F-BCFF-C2D710F5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085D40-2169-40CD-847D-66F6F1E2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2ABA35-398B-46E6-8459-0470C3EE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0250A5-F81C-41A3-881E-8AC15DE8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440A4D-E0BF-498D-A873-6A054BBE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6EAD0A-3163-4192-B663-0AA675C0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AFD739-4E0C-427A-965C-7CCDE505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94654B-55A6-4F1E-919D-33FDFF45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D86D4-D277-410A-96A8-12820C96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F0E3-CD42-4998-9F2F-78CA0A74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02D8F2-BFAE-43EE-B58D-16AA242D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5DF10C-1953-4D77-A0F4-3AC1BD32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667A24-75B9-4B9C-B9B2-261AAF4D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F353F9-18BE-4FBA-8DC3-25ECAB2E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1AA978-4571-4945-87A4-2FD0276A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883467-F5A6-4DA5-8227-11A3F6D2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E41A7F-DD83-47D0-9BE4-B450E746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5177E5-5B2D-4F0E-AEB2-0736AE56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FD1250-6048-4443-AED3-A953D0EC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5A6637-7B5A-4D34-9BEC-48EAB0E5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EB51-ACCC-4EDA-B732-19011CA7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FE1E6-68B6-4A0E-8626-9B835338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4E79CCA-312C-46DF-B01A-6AC1931B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B8A63F6-46CD-41FA-952B-764DB0EF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6B0411E-9453-4415-90E1-F4CEBB8C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5B0E50B-4DDD-43E9-BB32-8EBE9D49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F2D7C96-3A56-4E83-A77C-271A6636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FC0E9BA-A533-4AAB-BB8E-E25D70BE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92DD0FD-4F18-49AB-A8AB-97FB5729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441C6D6-25F0-4406-AF87-6936205D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F49FE50-2240-4BA2-A9FC-B089E978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48FF-0E81-4C02-A55D-34B6FFDC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F7E02DB-5F09-4A0F-9E23-82C8BB5A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B05CC32-2AE6-4645-B134-A1621B73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76F7D5-27BB-4D47-AEAC-2111C3D1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4661-08F4-462D-867F-86D3901D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4674-52A6-4FA4-B063-9A79F29E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F3AF-F879-4E28-B9C5-30349912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BB71-CC0D-42C8-B27E-ACFA0B9A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14C1-F8BC-48A4-BE86-6FB04E74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8552-AAA9-4E8A-B99F-6854C560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05843-40E5-4267-8138-C4003B35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FE5C6-8DE2-432A-A523-A0E4367B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29BC0-85CD-4B31-ADF5-81642DAC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0814E-B403-498B-B14A-69805054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BA2A5-2ACC-4625-B670-BF0A2861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C76-3A8F-4FE3-8CB8-1E2DBAFE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DC994-0A93-411C-974F-CF16B93B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D57F8-7FC9-48E5-802E-5B80ECA3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6DED4-0D34-4EB1-9D82-41568E2D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9B9CC-CA40-4BDA-A31A-699931A8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A68A1-F39E-4923-85F8-8ADF7C2B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514EF-2C33-4ADB-B0BE-8AB5A8FC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34BE9-0CEE-4EDF-BE35-64CE1A1A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75D02-4A96-474B-8B1A-4A95F9F7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E7B58-EB10-4C24-B493-297F0848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1A0E3-A8F0-4680-8A71-58851EEB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403-403B-4AD7-8FF9-F2CAD0DC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8CB2B-D2D8-458C-AFC6-0DB4FDDD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5997D-ACD5-4203-A62F-C58ACA70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FBFF3-F49B-43C0-A8D3-6887CABE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FE836-4D49-467B-B79C-91F76688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10023-FF24-4AE2-ADC5-0E37A169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A714F-A90F-44B5-A397-017B58CD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16D16-9D8E-43A8-93DF-CB0EBEAC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0708D-9292-437A-929F-278BAE64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20DA3-77E8-41B0-AF82-45599674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687A8-10C3-4E34-8464-FA5EBA0A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CF03-F77C-49E5-94D2-C7ACC8B8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AE21A-3DD5-4611-8DF7-253C63A2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B6F33-B83B-45F3-A453-FBA8AF83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00C46-53D9-4A49-BA91-9EFBC39F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56060-8487-42C8-AB6F-9D28E477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70F94-89E0-40D5-9D1B-E470E74B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44A78-9359-44E4-96FF-2120DFE9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9F9D7-EFE4-4047-8530-A92AF287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37014-D8A1-41C9-8063-03E19760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7260E-8273-4548-8BD8-5187B0CC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CF500-09D3-40C0-ACC0-ACB30FD3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8E51-F55D-427E-AB08-2CB113EC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F98A5-CC82-499A-B735-BC3DA8F3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C6930-B55F-413A-A4C6-689AA735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3B26A-DA94-4518-B0D1-85940149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99FF2-4045-4E61-B635-72447E85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33DD9-C71C-498D-9D10-89ACF6FB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95461-D7A5-4FD6-A2B5-AF70C562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BCE3D-D3C1-434A-A33D-04D18BF2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EAA8D-E368-4B27-B9E2-012EE584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57426-42C1-440F-A525-33A5C13F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01E2C-CA9F-4008-885A-31430661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9B10-6A4B-4716-9A1A-FD914E4B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E6FAC-E9E3-46B7-8EE3-60EFCF56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4FFC8-A2EE-43E5-A3EF-C8C3DF1A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71297-EFA8-45C2-8194-92BC6FC8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B8FEC-7EB0-4EA4-89C2-F1C57EF2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48FC0-2EC7-4DEC-B31C-A89E4A2C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AC52D-29B1-4F26-96B9-262F0374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FA451-F06F-430F-A803-B3C09813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E1966-DC25-43B0-87A8-29870E76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1B60F-0EBF-457F-8900-DCA130D0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74FCB-E626-4F19-836B-02A5A745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FA03-EF7A-454B-84B4-19640D23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6A102-8219-4345-9B32-9984DF58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AEEC1-D2F1-49A2-ACB7-9F57D087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BC7CA-1920-4227-857F-D87E9DB0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E8336-7309-452F-95D9-D92E5D8A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8884F-9E2F-4361-AD68-42E83D25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EDF98-5A13-4A11-A272-FA4FB0B4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DC384-FAEF-4B31-8252-EAA7728F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74DEB-A9AB-4082-9DA6-59989A1D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CCA5F-7E28-4128-AD26-FFC2DA66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2F042-F058-4A62-B5BC-055F0BDD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76A-29BA-4807-B98A-16427FCA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FF70A-2959-4705-9CFD-27F74526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724B1-69CF-42EC-993F-DE4394DE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66CBC-6754-4C29-82EB-B8E5388E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CD3EE-DA82-4235-96B0-D15DF1FE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7A8FA-3AC8-4121-A933-5D991ACB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640ED-DF48-4414-B43C-4A4921A6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9D904-A2FA-49DE-B6D1-E0B3A4DA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4E196A-A039-438B-805C-8C67D882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5DF031-C53E-4DE0-BA73-3CE936C6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1EFFFD-7452-4955-B8C0-56B70BF9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4685-5215-47E7-9ED0-00E9EAB4E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EABE-323D-44C7-981F-D1537967EFA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57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7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7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7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8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66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8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CCE3-9411-4F2F-9750-C0C4EC3B6FF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4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4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5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5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5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5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5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6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6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7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7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7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8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8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8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9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9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9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9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0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0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0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1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1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1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82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82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2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3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3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3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4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4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4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4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5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5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6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9E93-1020-460A-80F5-4FC4FB1EBBE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3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04D4-2EC3-4A03-B773-264C087AC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dt" idx="4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3470-5A28-410D-B562-7A077D29D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0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0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0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C272-16BC-4BD7-A40C-3842A13912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F910-F3E9-43B2-ABCC-516F005843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6202-1341-40AB-91EE-EE2EFF151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8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06CD-88ED-4037-9929-12A1D5CFB0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43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6B78-912D-4982-97FF-0A786CF49E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8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2C25-A3AE-4463-9999-E604ABDAB3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3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8C0C-FAC8-495E-A047-18A5FAA754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84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BCC6-C16D-4A5E-8AEA-35A8CD1E32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6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53A1-3137-4368-A22C-4E789376C5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08F3-6669-403A-B8E4-C1C9817C14D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hyperlink" Target="http://www.google.com/imgres?imgurl=http://www.lykhin.com/mobilephoto/wp-content/uploads/2007/11/sbsh0225.jpg&amp;imgrefurl=http://www.lykhin.com/mobilephoto/belgorod-russia-central-market/&amp;usg=__jwqR8gqz3ojPQrnDU-TKswrkg1U=&amp;h=338&amp;w=450&amp;sz=154&amp;hl=en&amp;start=2&amp;zoom=1&amp;itbs=1&amp;tbnid=Ssk1JMEe3gdh9M:&amp;tbnh=95&amp;tbnw=127&amp;prev=/images%3Fq%3Drussia%2Bmarket%26hl%3Den%26gbv%3D2%26tbs%3Disch:1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nap ITC"/>
              </a:rPr>
              <a:t>Russia’s Econom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nap ITC"/>
              </a:rPr>
              <a:t>By: Mario Ragusa, Alex Huynh, and Fiona Schmid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Ravie"/>
              </a:rPr>
              <a:t>Problems/Solution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vie"/>
              </a:rPr>
              <a:t>Problem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Factories focused on heavy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Had older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Ravie"/>
              </a:rPr>
              <a:t>Solu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factories shifted to light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High-technology industries have appe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596960" y="301932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empus Sans ITC"/>
              </a:rPr>
              <a:t>Important parts of Russia's econom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Gold and fish are both found in South Eastern Rus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Coal is a major resource and is found in the cold parts of Rus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Russia is one of the leading oil produc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130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1131" name="" descr=""/>
          <p:cNvPicPr/>
          <p:nvPr/>
        </p:nvPicPr>
        <p:blipFill>
          <a:blip r:embed="rId3"/>
          <a:stretch/>
        </p:blipFill>
        <p:spPr>
          <a:xfrm>
            <a:off x="4648320" y="3962520"/>
            <a:ext cx="1904760" cy="2149200"/>
          </a:xfrm>
          <a:prstGeom prst="rect">
            <a:avLst/>
          </a:prstGeom>
          <a:ln w="0">
            <a:noFill/>
          </a:ln>
        </p:spPr>
      </p:pic>
      <p:pic>
        <p:nvPicPr>
          <p:cNvPr id="1132" name="" descr=""/>
          <p:cNvPicPr/>
          <p:nvPr/>
        </p:nvPicPr>
        <p:blipFill>
          <a:blip r:embed="rId4"/>
          <a:stretch/>
        </p:blipFill>
        <p:spPr>
          <a:xfrm>
            <a:off x="6553080" y="18288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133" name="" descr=""/>
          <p:cNvPicPr/>
          <p:nvPr/>
        </p:nvPicPr>
        <p:blipFill>
          <a:blip r:embed="rId5"/>
          <a:stretch/>
        </p:blipFill>
        <p:spPr>
          <a:xfrm>
            <a:off x="6553080" y="3962520"/>
            <a:ext cx="2286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Juice ITC"/>
              </a:rPr>
              <a:t>Command V.S Free Mark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Command controls what you sell and the price of your goo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Command economy has impacted a few countr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Free Market lets you choose the products you sell and your pr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A lot of countries have free market econo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3" dur="2000" fill="hold"/>
                                        <p:tgtEl>
                                          <p:spTgt spid="1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ussia’s type of Econom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ly Russia had a command and globally isolated economy. There was many people in pover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 Russia is more based on free market and globally integra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2"/>
          <a:stretch/>
        </p:blipFill>
        <p:spPr>
          <a:xfrm>
            <a:off x="301680" y="3963600"/>
            <a:ext cx="8540640" cy="2135160"/>
          </a:xfrm>
          <a:prstGeom prst="rect">
            <a:avLst/>
          </a:prstGeom>
          <a:ln w="0">
            <a:noFill/>
          </a:ln>
        </p:spPr>
      </p:pic>
      <p:pic>
        <p:nvPicPr>
          <p:cNvPr id="1140" name="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4343400" cy="2133360"/>
          </a:xfrm>
          <a:prstGeom prst="rect">
            <a:avLst/>
          </a:prstGeom>
          <a:ln w="0">
            <a:noFill/>
          </a:ln>
        </p:spPr>
      </p:pic>
      <p:pic>
        <p:nvPicPr>
          <p:cNvPr id="114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3962520"/>
            <a:ext cx="41814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"/>
              </a:rPr>
              <a:t>Russia’s Grow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9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tencil"/>
              </a:rPr>
              <a:t>Russia has increased in wealth  since the economic crisis of the fall of the Soviet Un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tencil"/>
              </a:rPr>
              <a:t>They changed from Yeltsin years to Putin year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4687920" y="1828800"/>
            <a:ext cx="399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Important F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stellar"/>
              </a:rPr>
              <a:t>Getting to the materials In Russia is difficult because Serbia is mostly undeveloped because of its climat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stellar"/>
              </a:rPr>
              <a:t>Russia exports petroleum, natural gas, wood and metal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REDI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ed by Alex, Mario 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d by Alex, Mario 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arch by Alex, Mario 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ponsored by waff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000" fill="hold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1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000" fill="hold"/>
                                        <p:tgtEl>
                                          <p:spTgt spid="1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9:53:25Z</dcterms:created>
  <dc:creator> </dc:creator>
  <dc:description/>
  <dc:language>en-US</dc:language>
  <cp:lastModifiedBy> </cp:lastModifiedBy>
  <dcterms:modified xsi:type="dcterms:W3CDTF">2010-12-20T13:54:29Z</dcterms:modified>
  <cp:revision>11</cp:revision>
  <dc:subject/>
  <dc:title>Russia’s Economy</dc:title>
</cp:coreProperties>
</file>